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F09-4981-4D51-BDF0-EDF57EBB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772-831A-4DFC-B23F-4D35FB50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52F-0DB9-4F71-A0B1-F3FCD02E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5D80-CDBE-4222-8F73-4F983CC6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22A-8A3F-4AFC-92E5-AF0D4964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1DAB-A9EB-4C48-B676-150748B4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3EF-9B4D-43EB-B19E-29D9B9A0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7D84-C7D6-4C6E-93E1-E32F22E0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AD08-A598-430C-BDAC-2F671396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838-AFDE-4705-87EA-7246BA5F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8071-A69A-481E-AFB5-25E41560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2FB-0746-495B-B853-4296D84A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76E0-0340-48C4-A675-2363A1DA72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hotosynthesis &amp; Cellular Respi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" name="Picture 6" descr="NA00881_"/>
          <p:cNvPicPr/>
          <p:nvPr/>
        </p:nvPicPr>
        <p:blipFill>
          <a:blip r:embed="rId1"/>
          <a:stretch/>
        </p:blipFill>
        <p:spPr>
          <a:xfrm>
            <a:off x="304920" y="1447920"/>
            <a:ext cx="472284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escribe Cellular Respi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chemical equation for cellular respiratio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w does cellular respiration benefit plant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 cellular respiration obey the Law of Conservation of Energy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re photosynthesis and cellular respiration relate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at is Photosynthesi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equation for the chemical reaction of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How does Photosynthesis benefit the plant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happens when the plant makes extra glucose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energy transfer in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 photosynthesis obey the Law of Conservation of Energy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y is this important to u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at is Cellular Respiratio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0:48:27Z</dcterms:created>
  <dc:creator>Mary Poarch</dc:creator>
  <dc:description/>
  <dc:language>en-US</dc:language>
  <cp:lastModifiedBy>BTSD</cp:lastModifiedBy>
  <dcterms:modified xsi:type="dcterms:W3CDTF">2011-03-08T16:21:17Z</dcterms:modified>
  <cp:revision>54</cp:revision>
  <dc:subject/>
  <dc:title>Photosynthesis &amp; Respiration</dc:title>
</cp:coreProperties>
</file>